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B3BB7-35BE-412D-A022-4166171CAE8C}"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4D7D5-9E8F-41B0-B812-62FFE6E84A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141F8-4851-415C-8C24-0834594006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E8E01-C1F1-48F0-B3FF-534605A96A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52A2C-7863-4C3B-A64D-C8B040E7D8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5BD4B-78CC-42B8-A4F0-34909550FD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DDFA1-B4EA-44E5-BC34-F5E154DC7C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BBE8B4-6680-4401-BA2E-38A399572C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482C74-BB14-4BEC-A5D3-8C149653ED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2150A-1948-49D1-8816-A7428E2447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73CA5-F7B5-4FC2-B934-17CF5FDC7E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E101D-A78C-4CE2-AC05-45C95182EE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69CBA-C5CF-4117-9A28-DF5651E367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32CD0-E7DA-450A-AACC-5562605954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0BD38-066E-4004-9160-A27933D029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D7AAC-98DD-4F38-9869-3CAF953ACE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E442B-8C75-4780-8F6E-843CA66CCF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3819B-630E-42DE-ADB6-C9A9E306CD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FC2DC-CE86-4A25-AAB2-BC87494968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4087A-7B8C-4C3A-A6F8-26B5EF5320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9EF6A-EE7C-4E12-A00E-1A22960918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2C5D7-4717-457A-87E6-4A9A4B695A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76D8F-1899-48F8-AC7A-45ED2E9F82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EA4C3-EF0D-40C5-94A7-34FB6F03ED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95AE1-93C9-4DF9-9CC2-E147BF390A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01FFF-233E-4DCB-96D7-ECCF2D3D32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0386E-D47F-45AC-B1B3-A8BC4EF8C1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45664-0092-40FD-811C-C98D1733D5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5443D-4270-48BF-8404-F676FE09EB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F3EA3-906E-4221-8C19-357A4290C8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E5FF8-FB35-412F-9E27-3C70922D65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ECEC7-4AB6-4529-A581-F0D749BD1B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C89FD-6E8C-436C-89C0-7E4BBCC586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233400-77B8-4B4F-8B42-84620BB03F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6D544-6558-4312-A460-2F23BFBD9D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54B20-D442-4EBA-B609-2EE5E9DB6B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B2DB9-C5BF-4538-9DBF-F91036D01A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C07A6-77AE-415E-8DE0-F73096061E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0FB9B-01D4-491E-94BB-123F4F6E92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C3378-224B-4D9E-87CE-763F8A7431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8E14C-D028-4E39-852A-007AC5BAA2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74EB0-05A1-41DC-B48D-AB7BAFAC36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34F34-9926-4F38-880F-F5F12EAE1E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E2A58C-62C6-4B6F-83DB-FFD4175C42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CD9F9-C758-4F7E-8ACB-A56E034680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FA0620-07EF-4DF7-9012-2C3D80B6D4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6DBEC-94DA-42F7-A55F-617460F882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A1950-9DF6-4F85-A249-E9D8F116B7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83555-1030-4E2B-91D5-9F094EBF37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A00D2-86DE-4F04-ABF3-BB7B494069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DF57B-680E-4105-BC45-8AB5139E3C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40712-87A3-4AEA-8C71-D72AE3E738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8B203-91F4-42E6-A401-2DDF7A9BE1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11D38-D2F6-4BEF-8C38-9593D9138C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8E9BA-24FD-4D7C-8FE9-C5D2C0ABD9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BD3F8-4BC5-4C3D-95E3-69CEBC8DFD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9BF26-F1B6-4CFC-A829-27B52CB879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0EAB6-E1C6-4F62-BC75-1656B51795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49FB7-D6DB-4AF1-8E44-3037A0C62F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BA76DC-6666-4BF2-A0CC-1E68AAFCDE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F410C-4747-4E70-888A-9B4545D7E5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A3081-7E09-4AAD-90DC-97788B58FE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4E542-8A44-4E5B-9067-2D5B4AFD8F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E2CE2-CCDA-4CBC-915B-A325623438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130B3-B564-40C1-B186-0BC45225D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9D775-1CEB-4628-9AEC-142B76F06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5C076-93C6-4A51-8852-314926B77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09AB4-AF25-4AF2-AB45-26D1A2B66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F174C-B7A3-430A-B8AF-068971456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DE502-7AF2-44EE-A455-A57B4534D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C397F-2633-4E37-A99A-BE5018ECC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428A4-1504-4070-BE9A-FB55D314B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B9460-9D7A-4E84-86A7-13DD034AD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DEDFA-D462-46CE-98B1-AC4F5F325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DD1D-14B4-40CA-9FD6-33086B77D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04473-3379-448C-AD05-742F54E8C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0C4AE3-ED02-4C6C-80EC-30B40B149701}"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6558A-7602-4DC1-9AF2-8622066AF2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0413DC-0B99-4661-B7F9-5A0219A2D8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37FC1-50EB-4DB8-8491-601E6647B7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C88970-DE3E-4C8A-8D65-AC39F26F0C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A9B682-99DF-4102-910C-6EA8A63171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B6D58-5513-496F-9FB4-E58315CA1F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D447A-9E61-4573-B6D1-8BF05608C8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DD04C-E944-4102-9044-736A0F577A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647B6-EA46-49CD-8451-BBD8CD2DE7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93004-93D1-40B1-B0D2-EBC73F2EE5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40E402D-0203-4BDC-AEF3-ADB9A43074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6673F-67CD-43EA-B21B-C869D0D660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Zahid Jamil</cp:lastModifiedBy>
  <dcterms:modified xsi:type="dcterms:W3CDTF">2017-10-16T08:48:29Z</dcterms:modified>
  <cp:revision>486</cp:revision>
  <dc:subject/>
  <dc:title>Introductory Cybercrime Training for Judges and Prosecutors</dc:title>
</cp:coreProperties>
</file>